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6AF-9C96-4696-9B66-6985611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9E1-BCBF-42B6-AF3F-BAC90E8F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22F3-1FBD-4435-AC05-B95B3E81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BCD3B-05AF-4A52-9049-A1CD5A46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989C6-A0B3-4161-A924-37EA8D82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A7EB4-238B-4C0D-A1BD-9A84F65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B4B4C-7DCB-4099-AA19-495940F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3620-B4E2-4D8E-91EC-A8C21F40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362C-2E68-42AC-AC0E-D106BD4D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88298-54EC-405E-A1B2-C5F301A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53D41-8434-4A5E-86CA-C1BAD1F2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09D-8A59-421C-BD4F-68B205C8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D65-05A2-4DC3-A430-E0A41765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5292-266D-46C2-B573-129A2B02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5C7-1445-4F3C-BE28-C91932A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976-D2BA-4F42-A61B-C805A64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BA3-626E-4AD3-B79D-FDD6D27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D26-C45F-4513-84F7-E36D1C01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0706-2055-4BA8-ABF7-C89CD38A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4962-44F8-4F6F-A22A-4A7827B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A0B-63CE-4997-B382-296F665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EB7-F43E-4EE7-A031-4A6ED5A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A7C1-B05F-481F-A0A1-2FC3771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789-F160-4746-A361-AC400C0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96D8-F060-4010-AD38-7C83F6F4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E312-9291-425D-B491-55EED309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3971-2B88-4EDE-B4B5-93B881E9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2AFE-A27F-4025-BC7C-9295132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AB74-965F-427A-9E75-CFF181C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B81F-5176-4490-A813-41481D4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00D0-296D-4D61-9CFE-F83F8A2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E97-E51E-45D1-AB93-45FB0556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9A28-57C8-4CDC-A73F-5BC5624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627E-94C2-481C-B8A0-44F1383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83FF-3B37-4303-9698-0D03F72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7EEB-3141-4F3D-A6ED-535AD0D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AC52-64F8-4A18-B969-E0AEB67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8BB8-0D50-46E5-B5F6-40EC0BC7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4EFD-98B1-4FFD-98F6-193D0C7A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0262-5505-4F5A-A907-98244828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8EF4-B8F3-4E50-A83F-B8D0E1E1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1855-C906-4877-8399-D6EB6B44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218-BEA2-4433-830E-9E78FBD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075F-4619-4D04-B2AE-3D11358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A9F1-2ADA-4483-8646-38B900F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AF48-46D5-4980-919D-43B50BC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4E33-BEEC-4701-A0D0-BA35976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34DC-BBB2-4C79-A3FB-46D81ED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7A4D-80C7-4E60-9EEF-A84DFAD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D950-92D2-4EB7-8DDA-8B777A5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1CA4F-D372-4116-B041-AA58F4AB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30F9-61AB-4ED0-A844-BC0E3F23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9C58-00AF-4C2A-8B70-04F01D5A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581-2B8A-4578-A1EE-3205BDA2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4633-F658-4C7A-9B62-28CA7F5D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12CE-FA54-471C-BCAC-D264EF1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A474-B15F-4419-89D4-5A97EEB5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9C258-2F8B-4939-8718-2326622B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FC11-B56A-45AC-B4A1-49C3363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F394A-CDAC-49B3-A9D2-844DC0A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35A0-6A23-4D2A-BFF1-936C675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CE9E-AD51-4B5D-B1C0-1525F2E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52C5-7E88-47D9-89AC-5F77AD8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44D4-8247-443E-9969-5FB7D25C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FAB-01AB-4A01-AA5A-CABE3E1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1B9A-6C71-4D8B-840F-0EE51B6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E72E3-8432-4BE7-AB27-945D2A7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593E-DF2E-44B0-9331-0B4AE584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7E04-0011-4144-9D5F-30427B42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8A50-35E0-468C-8737-4DE32D3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9F67-B98D-4C8C-9B23-0FAD0459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2E9B-A5A1-47E8-8F1E-E177B565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7205F-8645-480D-8616-29973BF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A683-78EE-40DD-BA93-ACF9DCF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584BC-38FC-4242-87E8-997947F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9AE-E278-4D84-A792-3E3A537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4DE4-AC00-4372-AAC8-C349641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F8F5-4FFD-4647-BC52-BF7E256F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B237-46DB-4DB9-AA8C-ED9DDC4B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4145D-2614-419D-8D76-CFB7F43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05E1-F0FA-46C5-A42E-956FCD21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21572-6D27-4C5D-AEAB-0358667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958F7-594C-4602-B8D4-547B8897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8562-8A87-4821-A037-BB2C20DC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5411-EE13-4534-ACBC-CA30837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E8A2-C8E2-47E6-AC2F-4092F4F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DCB-5B1C-4AC3-8DBE-26334BB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7D17-7B1C-40B3-9955-2CBBE2E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00FAD-E3C1-4CF4-AE34-DB09AA4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814D-CF34-4F90-B5D8-22C246C1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1FEE-A469-4B57-9738-594A3BD5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FA03-225B-4552-8628-164FB83B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73C82-D83F-48E1-BA4F-8FF549D6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5CB3-685B-40FA-93F6-1B78C9C5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1C506-73CD-4BA5-93C8-A425A15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81E1-2858-498F-B691-AA26DCF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566E-1925-4EDB-BF06-E15F2645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19A-4FA4-495B-8903-0BEB2E1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87AF-083F-48A2-AFF7-B63858A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7C5A-C6FA-4B69-89A4-C8FC6FA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21CE-EC3B-4170-BD04-7206528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8F48-E41B-4E60-8F76-0ED79F7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FBEA-D8EA-4D11-8B08-F85890F0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9A90E-6E57-4045-AC79-CEF9CFF0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6346-96FA-4D21-9600-36877DD7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40525-789C-4BAD-BE25-6CB97D9E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E20BD-62A9-4649-8D3B-F2CF6F4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11BA6-A8DB-4DFB-9ADD-BB78858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499-9053-42C8-B2FE-3924072B62C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76A6-AAF0-4FC0-A5FB-828BF5417B2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66AB-FBDA-4043-81E6-AF441A57D7D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CDF-6259-4E6D-AE34-CC594D909E99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FFC3-A63A-48D7-BECA-48EAF64C7A7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4B6-6015-4DBC-A505-CA27F54A83B6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DB8C-12EB-409F-9391-14290745398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1D2-51C3-4838-8D9C-634ED29E600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1AE-F272-4E75-A14F-2D1DFA69CEF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714760" y="-360"/>
            <a:ext cx="4286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443329"/>
                </a:solidFill>
                <a:latin typeface="Symbol"/>
                <a:ea typeface="Symbol"/>
              </a:rPr>
              <a:t></a:t>
            </a:r>
            <a:endParaRPr b="0" lang="en-US" sz="5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4" descr="Imagen relacionada"/>
          <p:cNvPicPr/>
          <p:nvPr/>
        </p:nvPicPr>
        <p:blipFill>
          <a:blip r:embed="rId1"/>
          <a:stretch/>
        </p:blipFill>
        <p:spPr>
          <a:xfrm>
            <a:off x="2643120" y="928800"/>
            <a:ext cx="4286160" cy="5290920"/>
          </a:xfrm>
          <a:prstGeom prst="rect">
            <a:avLst/>
          </a:prstGeom>
          <a:ln w="0">
            <a:noFill/>
          </a:ln>
        </p:spPr>
      </p:pic>
      <p:sp>
        <p:nvSpPr>
          <p:cNvPr id="401" name="5 CuadroTexto"/>
          <p:cNvSpPr/>
          <p:nvPr/>
        </p:nvSpPr>
        <p:spPr>
          <a:xfrm>
            <a:off x="3357720" y="6000840"/>
            <a:ext cx="2928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ndalus"/>
                <a:ea typeface="Andalus"/>
              </a:rPr>
              <a:t>CLEOPAT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69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3760"/>
            <a:ext cx="86868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Andalus"/>
                <a:ea typeface="Andalus"/>
              </a:rPr>
              <a:t>Cleopatra fue reina de Egipto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Nació en Alejandrí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Su padre era el rey de Egipto, y cuando se murió, Cleopatra, de 17 años, y su hermano, de 12 años, fueron los rey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e3b3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6" descr="Imagen relacionada"/>
          <p:cNvPicPr/>
          <p:nvPr/>
        </p:nvPicPr>
        <p:blipFill>
          <a:blip r:embed="rId2"/>
          <a:stretch/>
        </p:blipFill>
        <p:spPr>
          <a:xfrm>
            <a:off x="7812000" y="115920"/>
            <a:ext cx="946080" cy="911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Resultado de imagen de images of egypt cleopatra"/>
          <p:cNvPicPr/>
          <p:nvPr/>
        </p:nvPicPr>
        <p:blipFill>
          <a:blip r:embed="rId3"/>
          <a:stretch/>
        </p:blipFill>
        <p:spPr>
          <a:xfrm>
            <a:off x="395280" y="452772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406" name="2 Marcador de contenido"/>
          <p:cNvSpPr/>
          <p:nvPr/>
        </p:nvSpPr>
        <p:spPr>
          <a:xfrm>
            <a:off x="3376440" y="4527720"/>
            <a:ext cx="529776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Andalus"/>
                <a:ea typeface="Andalus"/>
              </a:rPr>
              <a:t>Cleopatra hablaba siete idi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Resultado de imagen de images of egypt cleopatra"/>
          <p:cNvPicPr/>
          <p:nvPr/>
        </p:nvPicPr>
        <p:blipFill>
          <a:blip r:embed="rId1"/>
          <a:stretch/>
        </p:blipFill>
        <p:spPr>
          <a:xfrm>
            <a:off x="1508040" y="260280"/>
            <a:ext cx="5943600" cy="30672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179280" y="3141720"/>
            <a:ext cx="8713800" cy="40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Cleopatra se casó con su hermano pequeño. Cleopatra eligió morir y decidió suicid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Pidió a sus criadas que le trajeran una cesta con frutas y que metieran dentro una serp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2 Marcador de contenido"/>
          <p:cNvSpPr/>
          <p:nvPr/>
        </p:nvSpPr>
        <p:spPr>
          <a:xfrm>
            <a:off x="2771640" y="981000"/>
            <a:ext cx="6201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Murió en Alejandría, Egip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Andalus"/>
                <a:ea typeface="Andalus"/>
              </a:rPr>
              <a:t>La vida de Cleopatra es muy interesante</a:t>
            </a:r>
            <a:r>
              <a:rPr b="0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Resultado de imagen de map of ancient egypt"/>
          <p:cNvPicPr/>
          <p:nvPr/>
        </p:nvPicPr>
        <p:blipFill>
          <a:blip r:embed="rId1"/>
          <a:stretch/>
        </p:blipFill>
        <p:spPr>
          <a:xfrm>
            <a:off x="250920" y="642960"/>
            <a:ext cx="2376360" cy="3146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Resultado de imagen de cleopatra egipto"/>
          <p:cNvPicPr/>
          <p:nvPr/>
        </p:nvPicPr>
        <p:blipFill>
          <a:blip r:embed="rId2"/>
          <a:stretch/>
        </p:blipFill>
        <p:spPr>
          <a:xfrm>
            <a:off x="4878360" y="4365720"/>
            <a:ext cx="408636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1 CuadroTexto"/>
          <p:cNvSpPr/>
          <p:nvPr/>
        </p:nvSpPr>
        <p:spPr>
          <a:xfrm>
            <a:off x="665280" y="50004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¿Dónde puedes ver la momia de Cleopat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2 CuadroTexto"/>
          <p:cNvSpPr/>
          <p:nvPr/>
        </p:nvSpPr>
        <p:spPr>
          <a:xfrm>
            <a:off x="955800" y="4005360"/>
            <a:ext cx="7072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La momia de Cleopatra está en el Museo Británico de Londre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Deberíais ir a verla…. Yo pienso i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Imagen relacionada"/>
          <p:cNvPicPr/>
          <p:nvPr/>
        </p:nvPicPr>
        <p:blipFill>
          <a:blip r:embed="rId1"/>
          <a:stretch/>
        </p:blipFill>
        <p:spPr>
          <a:xfrm>
            <a:off x="928800" y="1125360"/>
            <a:ext cx="3571920" cy="2403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Resultado de imagen de british museum, london, cleopatra"/>
          <p:cNvPicPr/>
          <p:nvPr/>
        </p:nvPicPr>
        <p:blipFill>
          <a:blip r:embed="rId2"/>
          <a:stretch/>
        </p:blipFill>
        <p:spPr>
          <a:xfrm>
            <a:off x="4613400" y="1125360"/>
            <a:ext cx="4195800" cy="2428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Resultado de imagen de images of egypt cleopatra"/>
          <p:cNvPicPr/>
          <p:nvPr/>
        </p:nvPicPr>
        <p:blipFill>
          <a:blip r:embed="rId3">
            <a:alphaModFix amt="18000"/>
          </a:blip>
          <a:stretch/>
        </p:blipFill>
        <p:spPr>
          <a:xfrm>
            <a:off x="7380360" y="5589720"/>
            <a:ext cx="15652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6" descr="Imagen relacionada"/>
          <p:cNvPicPr/>
          <p:nvPr/>
        </p:nvPicPr>
        <p:blipFill>
          <a:blip r:embed="rId1"/>
          <a:stretch/>
        </p:blipFill>
        <p:spPr>
          <a:xfrm>
            <a:off x="2987640" y="1549440"/>
            <a:ext cx="3024360" cy="4040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2340000" y="580716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alus"/>
                <a:ea typeface="Andalus"/>
              </a:rPr>
              <a:t>Tiago Rial Silvestre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132000" y="620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Image result for gracias por vuestra atencion preguntas"/>
          <p:cNvPicPr/>
          <p:nvPr/>
        </p:nvPicPr>
        <p:blipFill>
          <a:blip r:embed="rId1"/>
          <a:srcRect l="0" t="0" r="0" b="12834"/>
          <a:stretch/>
        </p:blipFill>
        <p:spPr>
          <a:xfrm>
            <a:off x="1420920" y="836640"/>
            <a:ext cx="4821120" cy="48960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6084720" y="587700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ndalus"/>
                <a:ea typeface="Andalus"/>
              </a:rPr>
              <a:t>Preguntas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2T14:34:21Z</dcterms:created>
  <dc:creator>Ampa</dc:creator>
  <dc:description/>
  <dc:language>en-US</dc:language>
  <cp:lastModifiedBy>aula</cp:lastModifiedBy>
  <dcterms:modified xsi:type="dcterms:W3CDTF">2017-06-20T13:51:06Z</dcterms:modified>
  <cp:revision>28</cp:revision>
  <dc:subject/>
  <dc:title>Diapositiva 1</dc:title>
</cp:coreProperties>
</file>